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ACA-7884-48E4-9279-2A8A3F7E04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0994-F75A-4929-A748-07AA8E116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djectif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5867280" y="426708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3c16b"/>
                </a:solidFill>
                <a:latin typeface="Times New Roman"/>
              </a:rPr>
              <a:t>Compléter la description suivante</a:t>
            </a:r>
            <a:endParaRPr b="0" lang="en-US" sz="40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Bonjour! Je m’appelle Mélanie et j’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avoir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16 ans et j’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habiter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n Provence dans le sud de la France. Je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être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assez </a:t>
            </a: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(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petit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avec des cheveux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long)</a:t>
            </a: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t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bouclé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 Mes amis disent que je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être)</a:t>
            </a: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amusant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,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sympa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, et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fidèle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 Mon frère pense que je suis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laid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t </a:t>
            </a:r>
            <a:r>
              <a:rPr b="1" lang="fr-FR" sz="2800" spc="-1" strike="noStrike" u="sng">
                <a:solidFill>
                  <a:srgbClr val="525a28"/>
                </a:solidFill>
                <a:uFillTx/>
                <a:latin typeface="Times New Roman"/>
              </a:rPr>
              <a:t>(pénible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! J’aime sortir avec mes amis surtout faire (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___)</a:t>
            </a: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shopping. Dimanche, je joue (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    )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foot et passe le reste de la journée à fair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devoir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3c16b"/>
                </a:solidFill>
                <a:latin typeface="Times New Roman"/>
              </a:rPr>
              <a:t>Compléter la description suivante</a:t>
            </a:r>
            <a:endParaRPr b="0" lang="en-US" sz="40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Bonjour! Je m’appelle Mélanie et j’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i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16 ans et j’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habit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n Provence dans le sud de la France. J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sui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assez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petit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avec des cheveux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long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t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bouclé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 Mes amis disent que j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sui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musant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,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sympa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, et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fidèl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 Mon frère pense que je suis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pénibl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et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laid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! J’aime sortir avec mes amis surtout fair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du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shopping. Dimanche, je jou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u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foot et passe le reste de la journée à faire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mes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devoir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05" name="Rounded Rectangle 1"/>
          <p:cNvSpPr/>
          <p:nvPr/>
        </p:nvSpPr>
        <p:spPr>
          <a:xfrm>
            <a:off x="7415280" y="1676520"/>
            <a:ext cx="3808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ounded Rectangle 4"/>
          <p:cNvSpPr/>
          <p:nvPr/>
        </p:nvSpPr>
        <p:spPr>
          <a:xfrm>
            <a:off x="2895480" y="2173320"/>
            <a:ext cx="11430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ounded Rectangle 5"/>
          <p:cNvSpPr/>
          <p:nvPr/>
        </p:nvSpPr>
        <p:spPr>
          <a:xfrm>
            <a:off x="3733920" y="2666880"/>
            <a:ext cx="68580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6"/>
          <p:cNvSpPr/>
          <p:nvPr/>
        </p:nvSpPr>
        <p:spPr>
          <a:xfrm>
            <a:off x="5454720" y="2666880"/>
            <a:ext cx="102240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3051000" y="3147840"/>
            <a:ext cx="9874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ounded Rectangle 8"/>
          <p:cNvSpPr/>
          <p:nvPr/>
        </p:nvSpPr>
        <p:spPr>
          <a:xfrm>
            <a:off x="4419720" y="3147840"/>
            <a:ext cx="144756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2666880" y="3625920"/>
            <a:ext cx="6858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ounded Rectangle 10"/>
          <p:cNvSpPr/>
          <p:nvPr/>
        </p:nvSpPr>
        <p:spPr>
          <a:xfrm>
            <a:off x="3468600" y="3629160"/>
            <a:ext cx="1652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ounded Rectangle 11"/>
          <p:cNvSpPr/>
          <p:nvPr/>
        </p:nvSpPr>
        <p:spPr>
          <a:xfrm>
            <a:off x="5321160" y="3645000"/>
            <a:ext cx="11559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ounded Rectangle 12"/>
          <p:cNvSpPr/>
          <p:nvPr/>
        </p:nvSpPr>
        <p:spPr>
          <a:xfrm>
            <a:off x="7034040" y="3618000"/>
            <a:ext cx="11559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ounded Rectangle 13"/>
          <p:cNvSpPr/>
          <p:nvPr/>
        </p:nvSpPr>
        <p:spPr>
          <a:xfrm>
            <a:off x="6172200" y="4114800"/>
            <a:ext cx="137160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ounded Rectangle 14"/>
          <p:cNvSpPr/>
          <p:nvPr/>
        </p:nvSpPr>
        <p:spPr>
          <a:xfrm>
            <a:off x="1523880" y="4572000"/>
            <a:ext cx="10670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ounded Rectangle 15"/>
          <p:cNvSpPr/>
          <p:nvPr/>
        </p:nvSpPr>
        <p:spPr>
          <a:xfrm>
            <a:off x="2438280" y="5089680"/>
            <a:ext cx="5335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ounded Rectangle 16"/>
          <p:cNvSpPr/>
          <p:nvPr/>
        </p:nvSpPr>
        <p:spPr>
          <a:xfrm>
            <a:off x="7751880" y="5097600"/>
            <a:ext cx="5331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ounded Rectangle 17"/>
          <p:cNvSpPr/>
          <p:nvPr/>
        </p:nvSpPr>
        <p:spPr>
          <a:xfrm>
            <a:off x="1592280" y="6095880"/>
            <a:ext cx="77004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10T01:09:09Z</dcterms:modified>
  <cp:revision>97</cp:revision>
  <dc:subject/>
  <dc:title>Allez, viens! – Level 2</dc:title>
</cp:coreProperties>
</file>